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3599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083-606E-450D-BDAF-C48589B4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7956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36360" y="3836160"/>
            <a:ext cx="7956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08F3-A6ED-4590-9AC1-365844DE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3360" y="144792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36360" y="383616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3360" y="383616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A856-3DD4-4912-AF6C-6D496D9C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2561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26640" y="1447920"/>
            <a:ext cx="2561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6920" y="1447920"/>
            <a:ext cx="2561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36360" y="3836160"/>
            <a:ext cx="2561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26640" y="3836160"/>
            <a:ext cx="2561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6920" y="3836160"/>
            <a:ext cx="2561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95F0-CE02-4AC7-BB7C-3330532E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41C6-0812-489E-A23E-4D665DFA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36360" y="1447920"/>
            <a:ext cx="7956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C729-13B0-4344-8A0F-F67EFB81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7956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AD32-8B33-4738-BA34-70D9CAB9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388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3360" y="1447920"/>
            <a:ext cx="388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7E12-00C5-4107-907F-96173C24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EE7A-C4D8-48CF-A05A-22CAE671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36360" y="274320"/>
            <a:ext cx="795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5C7D-22FF-4D81-9433-841AD059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360" y="1447920"/>
            <a:ext cx="388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36360" y="383616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3294-525A-473A-A911-39419095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36360" y="1447920"/>
            <a:ext cx="7956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3BFB-DA0D-461E-92F9-DE3DE803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388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360" y="144792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3360" y="383616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3FA5-1748-40EB-A2CF-C18E790F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360" y="144792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36360" y="3836160"/>
            <a:ext cx="7956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14B9-73AD-42DB-9545-4F09E715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7956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36360" y="3836160"/>
            <a:ext cx="7956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A7B7-1A93-4A1E-A9AB-1BDA1DA7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360" y="144792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36360" y="383616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3360" y="383616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1DD2-0BC6-452D-AD81-E0D54F93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2561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26640" y="1447920"/>
            <a:ext cx="2561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6920" y="1447920"/>
            <a:ext cx="2561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36360" y="3836160"/>
            <a:ext cx="2561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26640" y="3836160"/>
            <a:ext cx="2561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6920" y="3836160"/>
            <a:ext cx="2561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5CF6-2335-4811-8EA2-A906FF4F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1D277-4744-476F-9CFD-09F73182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36360" y="1447920"/>
            <a:ext cx="7956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33776-BEDE-48E7-BE0E-09646161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7956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70F04-2011-484B-90C8-EB76A1B3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388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3360" y="1447920"/>
            <a:ext cx="388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2F826-C933-4373-B011-91F7B32D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1ADF0-DBF9-4AD5-8DA7-136DFC6B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7956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D96-F240-45BE-B21B-845A1E66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36360" y="274320"/>
            <a:ext cx="795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CF467-5385-44BA-83CE-14F6CA96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13360" y="1447920"/>
            <a:ext cx="388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36360" y="383616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ADE29-8647-4163-B3F3-2CD79118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388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13360" y="144792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3360" y="383616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E5927-8DAE-43B3-A2AD-F50AFD87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13360" y="144792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36360" y="3836160"/>
            <a:ext cx="7956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589EE-A233-4932-9E5D-DF1CC810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7956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36360" y="3836160"/>
            <a:ext cx="7956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41511-139A-418E-AA99-D46E2B86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13360" y="144792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36360" y="383616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13360" y="383616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BF23A-C249-43A5-82A2-6B0665B2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2561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626640" y="1447920"/>
            <a:ext cx="2561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16920" y="1447920"/>
            <a:ext cx="2561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36360" y="3836160"/>
            <a:ext cx="2561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626640" y="3836160"/>
            <a:ext cx="2561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316920" y="3836160"/>
            <a:ext cx="2561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4A775-BB2E-4336-B4B8-10308A2E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503E0-8C5D-4446-A33E-44E1B391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36360" y="1447920"/>
            <a:ext cx="7956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E597D-1835-4591-A250-AE6CB3C3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7956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12258-99F5-4261-8819-B1791F46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388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3360" y="1447920"/>
            <a:ext cx="388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69FC-303A-4278-8DC8-C03A8556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388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13360" y="1447920"/>
            <a:ext cx="388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6AE8A-2E2A-4ED7-A9BD-DA50D268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1EBEA-8A8F-4B4D-8AE1-E370A771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36360" y="274320"/>
            <a:ext cx="795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CB095-D8F2-452B-97CD-E8B1C0C9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3360" y="1447920"/>
            <a:ext cx="388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36360" y="383616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21598-6D46-4D07-B1BF-21A57B64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388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3360" y="144792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3360" y="383616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F723C-536D-4CE8-9E59-13486C64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3360" y="144792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36360" y="3836160"/>
            <a:ext cx="7956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B1446-8C76-4CB3-B2CA-3053694B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7956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36360" y="3836160"/>
            <a:ext cx="7956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883B5-9CB1-4507-83B7-1A06EF7E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13360" y="144792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36360" y="383616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13360" y="383616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E4333-CA69-4CEB-8B09-63421611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2561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626640" y="1447920"/>
            <a:ext cx="2561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316920" y="1447920"/>
            <a:ext cx="2561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36360" y="3836160"/>
            <a:ext cx="2561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626640" y="3836160"/>
            <a:ext cx="2561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316920" y="3836160"/>
            <a:ext cx="2561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1EE0F-70D4-4BCC-83B4-68D785B5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27A2E-D097-40BF-8A78-71ECFD88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308E-5752-4111-87F9-2234C3A1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36360" y="1447920"/>
            <a:ext cx="7956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C53E6-F61A-4A14-9E97-2D5ED9C5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7956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6EC98-76B5-4021-BDB1-636B6B9E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388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3360" y="1447920"/>
            <a:ext cx="388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668D9-5C39-445E-BA07-38D5BC7F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A06DC-31A2-416D-AE1A-FCC9DE2C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36360" y="274320"/>
            <a:ext cx="795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13CF7-79BD-42FA-BF76-C6D5CFD4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13360" y="1447920"/>
            <a:ext cx="388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36360" y="383616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71F09-4AC9-4226-9E92-1C751D38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388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3360" y="144792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3360" y="383616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4DD03-9BDD-4EEF-9F6B-7E75AF1B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3360" y="144792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36360" y="3836160"/>
            <a:ext cx="7956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B032D-7E21-47D0-9001-6F75F11F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7956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36360" y="3836160"/>
            <a:ext cx="7956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A9C82-605A-4387-B323-5680C8D1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13360" y="144792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36360" y="383616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013360" y="383616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84C21-AB2C-4EAA-8E07-97A74F9C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36360" y="274320"/>
            <a:ext cx="795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363E-96E3-4854-92D9-6DFC2EA8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2561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626640" y="1447920"/>
            <a:ext cx="2561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316920" y="1447920"/>
            <a:ext cx="2561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36360" y="3836160"/>
            <a:ext cx="2561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626640" y="3836160"/>
            <a:ext cx="2561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316920" y="3836160"/>
            <a:ext cx="2561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F18CE-00B0-418F-B7C0-7C3F3C34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360" y="1447920"/>
            <a:ext cx="388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36360" y="383616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6F08-8DC0-48CD-9C11-A70670F1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388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360" y="144792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3360" y="383616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5ED8-3160-4E7A-BE82-6288A859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3360" y="1447920"/>
            <a:ext cx="388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36360" y="3836160"/>
            <a:ext cx="7956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A7FD-BDF7-4B3A-9C3B-ABB3A0CD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8"/>
          <p:cNvSpPr/>
          <p:nvPr/>
        </p:nvSpPr>
        <p:spPr>
          <a:xfrm>
            <a:off x="0" y="0"/>
            <a:ext cx="93614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모서리가 둥근 직사각형 7"/>
          <p:cNvSpPr/>
          <p:nvPr/>
        </p:nvSpPr>
        <p:spPr>
          <a:xfrm>
            <a:off x="65160" y="69840"/>
            <a:ext cx="92282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36360" y="1447920"/>
            <a:ext cx="7956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318360" y="6190920"/>
            <a:ext cx="2536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36360" y="6172200"/>
            <a:ext cx="4056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7800" y="6277320"/>
            <a:ext cx="33120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92EE-4C1F-4EC8-B2FF-BC346379724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9"/>
          <p:cNvSpPr/>
          <p:nvPr/>
        </p:nvSpPr>
        <p:spPr>
          <a:xfrm>
            <a:off x="0" y="0"/>
            <a:ext cx="93614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모서리가 둥근 직사각형 10"/>
          <p:cNvSpPr/>
          <p:nvPr/>
        </p:nvSpPr>
        <p:spPr>
          <a:xfrm>
            <a:off x="66600" y="69840"/>
            <a:ext cx="92282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직사각형 11"/>
          <p:cNvSpPr/>
          <p:nvPr/>
        </p:nvSpPr>
        <p:spPr>
          <a:xfrm>
            <a:off x="65160" y="1449360"/>
            <a:ext cx="9236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직사각형 14"/>
          <p:cNvSpPr/>
          <p:nvPr/>
        </p:nvSpPr>
        <p:spPr>
          <a:xfrm>
            <a:off x="65160" y="1397160"/>
            <a:ext cx="9236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직사각형 15"/>
          <p:cNvSpPr/>
          <p:nvPr/>
        </p:nvSpPr>
        <p:spPr>
          <a:xfrm>
            <a:off x="65160" y="2976480"/>
            <a:ext cx="9236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36360" y="1447920"/>
            <a:ext cx="7956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18360" y="6190920"/>
            <a:ext cx="2536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36360" y="6172200"/>
            <a:ext cx="4056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7800" y="6277320"/>
            <a:ext cx="33120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0D0B-8ECA-4158-91E2-806A87B5C31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직사각형 9"/>
          <p:cNvSpPr/>
          <p:nvPr/>
        </p:nvSpPr>
        <p:spPr>
          <a:xfrm>
            <a:off x="0" y="0"/>
            <a:ext cx="93614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모서리가 둥근 직사각형 10"/>
          <p:cNvGrpSpPr/>
          <p:nvPr/>
        </p:nvGrpSpPr>
        <p:grpSpPr>
          <a:xfrm>
            <a:off x="55440" y="60480"/>
            <a:ext cx="9247320" cy="6711840"/>
            <a:chOff x="55440" y="60480"/>
            <a:chExt cx="9247320" cy="6711840"/>
          </a:xfrm>
        </p:grpSpPr>
        <p:pic>
          <p:nvPicPr>
            <p:cNvPr id="91" name="모서리가 둥근 직사각형 10" descr=""/>
            <p:cNvPicPr/>
            <p:nvPr/>
          </p:nvPicPr>
          <p:blipFill>
            <a:blip r:embed="rId3"/>
            <a:stretch/>
          </p:blipFill>
          <p:spPr>
            <a:xfrm>
              <a:off x="55440" y="60480"/>
              <a:ext cx="924732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3440" y="166680"/>
              <a:ext cx="903456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직사각형 11"/>
          <p:cNvSpPr/>
          <p:nvPr/>
        </p:nvSpPr>
        <p:spPr>
          <a:xfrm flipV="1">
            <a:off x="71280" y="2376000"/>
            <a:ext cx="922824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직사각형 14"/>
          <p:cNvSpPr/>
          <p:nvPr/>
        </p:nvSpPr>
        <p:spPr>
          <a:xfrm>
            <a:off x="71280" y="2341440"/>
            <a:ext cx="922824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직사각형 15"/>
          <p:cNvSpPr/>
          <p:nvPr/>
        </p:nvSpPr>
        <p:spPr>
          <a:xfrm>
            <a:off x="69840" y="2468520"/>
            <a:ext cx="9229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6360" y="1447920"/>
            <a:ext cx="7956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318360" y="6190920"/>
            <a:ext cx="2536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19000" y="6172200"/>
            <a:ext cx="409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7800" y="6275520"/>
            <a:ext cx="33120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34D2-FEB8-4F77-A4A6-4A7940C2F4E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직사각형 8"/>
          <p:cNvSpPr/>
          <p:nvPr/>
        </p:nvSpPr>
        <p:spPr>
          <a:xfrm>
            <a:off x="0" y="0"/>
            <a:ext cx="93614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모서리가 둥근 직사각형 7"/>
          <p:cNvSpPr/>
          <p:nvPr/>
        </p:nvSpPr>
        <p:spPr>
          <a:xfrm>
            <a:off x="65160" y="69840"/>
            <a:ext cx="92282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직사각형 9"/>
          <p:cNvSpPr/>
          <p:nvPr/>
        </p:nvSpPr>
        <p:spPr>
          <a:xfrm>
            <a:off x="0" y="0"/>
            <a:ext cx="93614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모서리가 둥근 직사각형 10"/>
          <p:cNvSpPr/>
          <p:nvPr/>
        </p:nvSpPr>
        <p:spPr>
          <a:xfrm>
            <a:off x="65160" y="69840"/>
            <a:ext cx="92282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6360" y="1447920"/>
            <a:ext cx="7956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318360" y="6190920"/>
            <a:ext cx="2536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36360" y="6172200"/>
            <a:ext cx="4056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7800" y="6277320"/>
            <a:ext cx="33120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1BAD-21E1-41A6-BF85-BC5871EC4A5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직사각형 8"/>
          <p:cNvSpPr/>
          <p:nvPr/>
        </p:nvSpPr>
        <p:spPr>
          <a:xfrm>
            <a:off x="0" y="0"/>
            <a:ext cx="93614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모서리가 둥근 직사각형 7"/>
          <p:cNvSpPr/>
          <p:nvPr/>
        </p:nvSpPr>
        <p:spPr>
          <a:xfrm>
            <a:off x="65160" y="69840"/>
            <a:ext cx="92282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직사각형 9"/>
          <p:cNvSpPr/>
          <p:nvPr/>
        </p:nvSpPr>
        <p:spPr>
          <a:xfrm flipV="1">
            <a:off x="69840" y="4682160"/>
            <a:ext cx="922176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직사각형 10"/>
          <p:cNvSpPr/>
          <p:nvPr/>
        </p:nvSpPr>
        <p:spPr>
          <a:xfrm>
            <a:off x="69840" y="4649760"/>
            <a:ext cx="922176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직사각형 11"/>
          <p:cNvSpPr/>
          <p:nvPr/>
        </p:nvSpPr>
        <p:spPr>
          <a:xfrm>
            <a:off x="69840" y="4773600"/>
            <a:ext cx="9221760" cy="493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36360" y="1447920"/>
            <a:ext cx="7956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318360" y="6190920"/>
            <a:ext cx="2536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36360" y="6172200"/>
            <a:ext cx="397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7800" y="6275520"/>
            <a:ext cx="33120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C5C0-D308-4ABB-B88D-9BF7D87CFCF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1640" y="1447560"/>
            <a:ext cx="7958160" cy="2057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odule 35</a:t>
            </a:r>
            <a:br>
              <a:rPr sz="4000"/>
            </a:b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ood Disorders and Personality </a:t>
            </a:r>
            <a:br>
              <a:rPr sz="4000"/>
            </a:b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isorder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바닥글 개체 틀 4"/>
          <p:cNvSpPr/>
          <p:nvPr/>
        </p:nvSpPr>
        <p:spPr>
          <a:xfrm>
            <a:off x="936720" y="6172200"/>
            <a:ext cx="405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36360" y="1447920"/>
            <a:ext cx="7956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굴림"/>
              </a:rPr>
              <a:t>The Social-Cognitive Perspectiv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굴림"/>
              </a:rPr>
              <a:t>Negative Thoughts Feed Negative Mood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굴림"/>
              </a:rPr>
              <a:t>Negative Moods Feed Negative Though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굴림"/>
              </a:rPr>
              <a:t>Depression’s Vicious Cycle (see diagram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Footer Placeholder 1"/>
          <p:cNvSpPr/>
          <p:nvPr/>
        </p:nvSpPr>
        <p:spPr>
          <a:xfrm>
            <a:off x="936720" y="6172200"/>
            <a:ext cx="405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o treat depress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36360" y="1447920"/>
            <a:ext cx="7956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바닥글 개체 틀 2"/>
          <p:cNvSpPr/>
          <p:nvPr/>
        </p:nvSpPr>
        <p:spPr>
          <a:xfrm>
            <a:off x="936720" y="6172200"/>
            <a:ext cx="405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2" descr="C:\Documents and Settings\gdonini\Desktop\10510.jpe"/>
          <p:cNvPicPr/>
          <p:nvPr/>
        </p:nvPicPr>
        <p:blipFill>
          <a:blip r:embed="rId1"/>
          <a:stretch/>
        </p:blipFill>
        <p:spPr>
          <a:xfrm>
            <a:off x="1785960" y="1467000"/>
            <a:ext cx="6905520" cy="46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3880" y="1904760"/>
            <a:ext cx="7958160" cy="1981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ypes of Personality Disorder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8" name="바닥글 개체 틀 4"/>
          <p:cNvSpPr/>
          <p:nvPr/>
        </p:nvSpPr>
        <p:spPr>
          <a:xfrm>
            <a:off x="936720" y="6172200"/>
            <a:ext cx="405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usters of Personality Disorder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36360" y="1447920"/>
            <a:ext cx="7956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voidant personality disord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ithdrawn; fearful of rejection; anxiou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chizoid personality disord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ccentric behaviors; socially disengage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istrionic personality disord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ttention seeking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arcissistic personality disord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aggerates their own importance; success fantasi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orderline personality disord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nstable identity; unstable emot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936720" y="6172200"/>
            <a:ext cx="405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38040" y="274320"/>
            <a:ext cx="85550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one most dangerous personality </a:t>
            </a:r>
            <a:br>
              <a:rPr sz="4000"/>
            </a:b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isorder is…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36360" y="1447920"/>
            <a:ext cx="7956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tisocial personality disorder (sociopath or psychopath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o conscience; criminal; irresponsibl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Footer Placeholder 3"/>
          <p:cNvSpPr/>
          <p:nvPr/>
        </p:nvSpPr>
        <p:spPr>
          <a:xfrm>
            <a:off x="936720" y="6172200"/>
            <a:ext cx="405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바닥글 개체 틀 2"/>
          <p:cNvSpPr/>
          <p:nvPr/>
        </p:nvSpPr>
        <p:spPr>
          <a:xfrm>
            <a:off x="936720" y="6172200"/>
            <a:ext cx="405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951200" y="798480"/>
            <a:ext cx="5459400" cy="526104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3"/>
          <p:cNvSpPr/>
          <p:nvPr/>
        </p:nvSpPr>
        <p:spPr>
          <a:xfrm>
            <a:off x="233280" y="228600"/>
            <a:ext cx="889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Times New Roman"/>
              </a:rPr>
              <a:t>Cold-Blooded Arousability and Risk of Cr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바닥글 개체 틀 4"/>
          <p:cNvSpPr/>
          <p:nvPr/>
        </p:nvSpPr>
        <p:spPr>
          <a:xfrm>
            <a:off x="936720" y="6172200"/>
            <a:ext cx="405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01640" y="2285640"/>
            <a:ext cx="79581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  <a:ea typeface="굴림"/>
              </a:rPr>
              <a:t>Understanding Personality Disorder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바닥글 개체 틀 2"/>
          <p:cNvSpPr/>
          <p:nvPr/>
        </p:nvSpPr>
        <p:spPr>
          <a:xfrm>
            <a:off x="936720" y="6172200"/>
            <a:ext cx="405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598760" y="1504800"/>
            <a:ext cx="6164280" cy="37530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3"/>
          <p:cNvSpPr/>
          <p:nvPr/>
        </p:nvSpPr>
        <p:spPr>
          <a:xfrm>
            <a:off x="468360" y="22860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imes New Roman"/>
              </a:rPr>
              <a:t>Murderous Mi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468360" y="556272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Times New Roman"/>
              </a:rPr>
              <a:t>PET scans illustrate reduced activation in a murder’s frontal cort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1560600" y="990720"/>
            <a:ext cx="29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imes New Roman"/>
              </a:rPr>
              <a:t>Nor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681440" y="990720"/>
            <a:ext cx="319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imes New Roman"/>
              </a:rPr>
              <a:t>Murde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ultiple Personaliti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36360" y="1447920"/>
            <a:ext cx="7956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ssociative disord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pecifically: “dissociative identity disorder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re they authentic (read pp. 520-521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8" name="Footer Placeholder 1"/>
          <p:cNvSpPr/>
          <p:nvPr/>
        </p:nvSpPr>
        <p:spPr>
          <a:xfrm>
            <a:off x="936720" y="6172200"/>
            <a:ext cx="405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1640" y="2057040"/>
            <a:ext cx="79581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ajor Depressive Disorde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바닥글 개체 틀 4"/>
          <p:cNvSpPr/>
          <p:nvPr/>
        </p:nvSpPr>
        <p:spPr>
          <a:xfrm>
            <a:off x="936720" y="6172200"/>
            <a:ext cx="405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epress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36360" y="1447920"/>
            <a:ext cx="7956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90% of suicides are the result of mental illnes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pression is the most common of those mental illness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ason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ultural cause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eographical cause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4" name="Footer Placeholder 3"/>
          <p:cNvSpPr/>
          <p:nvPr/>
        </p:nvSpPr>
        <p:spPr>
          <a:xfrm>
            <a:off x="936720" y="6172200"/>
            <a:ext cx="405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ere one gets depressed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6" name="내용 개체 틀 4" descr="8060.gif"/>
          <p:cNvPicPr/>
          <p:nvPr/>
        </p:nvPicPr>
        <p:blipFill>
          <a:blip r:embed="rId1"/>
          <a:stretch/>
        </p:blipFill>
        <p:spPr>
          <a:xfrm>
            <a:off x="1601640" y="1657440"/>
            <a:ext cx="7412040" cy="4381560"/>
          </a:xfrm>
          <a:prstGeom prst="rect">
            <a:avLst/>
          </a:prstGeom>
          <a:ln w="0">
            <a:noFill/>
          </a:ln>
        </p:spPr>
      </p:pic>
      <p:sp>
        <p:nvSpPr>
          <p:cNvPr id="237" name="바닥글 개체 틀 3"/>
          <p:cNvSpPr/>
          <p:nvPr/>
        </p:nvSpPr>
        <p:spPr>
          <a:xfrm>
            <a:off x="936720" y="6172200"/>
            <a:ext cx="405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ipolar Disorder </a:t>
            </a:r>
            <a:br>
              <a:rPr sz="4000"/>
            </a:b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(a.k.a. Manic depression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9" name="Content Placeholder 6" descr="roller-coaster.jpg"/>
          <p:cNvPicPr/>
          <p:nvPr/>
        </p:nvPicPr>
        <p:blipFill>
          <a:blip r:embed="rId1"/>
          <a:stretch/>
        </p:blipFill>
        <p:spPr>
          <a:xfrm>
            <a:off x="2057400" y="1447920"/>
            <a:ext cx="5715000" cy="4572000"/>
          </a:xfrm>
          <a:prstGeom prst="rect">
            <a:avLst/>
          </a:prstGeom>
          <a:ln w="0">
            <a:noFill/>
          </a:ln>
        </p:spPr>
      </p:pic>
      <p:sp>
        <p:nvSpPr>
          <p:cNvPr id="240" name="바닥글 개체 틀 4"/>
          <p:cNvSpPr/>
          <p:nvPr/>
        </p:nvSpPr>
        <p:spPr>
          <a:xfrm>
            <a:off x="936720" y="6172200"/>
            <a:ext cx="405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36360" y="2743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xplaining Mood Disorder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바닥글 개체 틀 4"/>
          <p:cNvSpPr/>
          <p:nvPr/>
        </p:nvSpPr>
        <p:spPr>
          <a:xfrm>
            <a:off x="936720" y="6172200"/>
            <a:ext cx="405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36360" y="1447920"/>
            <a:ext cx="7956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굴림"/>
              </a:rPr>
              <a:t>The Biological Perspectiv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굴림"/>
              </a:rPr>
              <a:t>Genetic Influenc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굴림"/>
              </a:rPr>
              <a:t>The Depressed Brai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바닥글 개체 틀 2"/>
          <p:cNvSpPr/>
          <p:nvPr/>
        </p:nvSpPr>
        <p:spPr>
          <a:xfrm>
            <a:off x="936720" y="6172200"/>
            <a:ext cx="405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2" descr="C:\Documents and Settings\gdonini\Desktop\10504.jpe"/>
          <p:cNvPicPr/>
          <p:nvPr/>
        </p:nvPicPr>
        <p:blipFill>
          <a:blip r:embed="rId1"/>
          <a:stretch/>
        </p:blipFill>
        <p:spPr>
          <a:xfrm>
            <a:off x="569880" y="1644480"/>
            <a:ext cx="8220240" cy="35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바닥글 개체 틀 2"/>
          <p:cNvSpPr/>
          <p:nvPr/>
        </p:nvSpPr>
        <p:spPr>
          <a:xfrm>
            <a:off x="936720" y="6172200"/>
            <a:ext cx="405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2" descr="C:\Documents and Settings\gdonini\Desktop\10505.jpe"/>
          <p:cNvPicPr/>
          <p:nvPr/>
        </p:nvPicPr>
        <p:blipFill>
          <a:blip r:embed="rId1"/>
          <a:stretch/>
        </p:blipFill>
        <p:spPr>
          <a:xfrm>
            <a:off x="569880" y="1333440"/>
            <a:ext cx="8220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바닥글 개체 틀 2"/>
          <p:cNvSpPr/>
          <p:nvPr/>
        </p:nvSpPr>
        <p:spPr>
          <a:xfrm>
            <a:off x="936720" y="6172200"/>
            <a:ext cx="405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2" descr="C:\Documents and Settings\gdonini\Desktop\10506.jpe"/>
          <p:cNvPicPr/>
          <p:nvPr/>
        </p:nvPicPr>
        <p:blipFill>
          <a:blip r:embed="rId1"/>
          <a:stretch/>
        </p:blipFill>
        <p:spPr>
          <a:xfrm>
            <a:off x="569880" y="1701720"/>
            <a:ext cx="822024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22:52:38Z</dcterms:created>
  <dc:creator>bfw</dc:creator>
  <dc:description/>
  <dc:language>en-US</dc:language>
  <cp:lastModifiedBy>MacAdmin Kis</cp:lastModifiedBy>
  <dcterms:modified xsi:type="dcterms:W3CDTF">2009-01-05T23:21:55Z</dcterms:modified>
  <cp:revision>50</cp:revision>
  <dc:subject/>
  <dc:title>Module 45 Dissociative and Personality Disorders</dc:title>
</cp:coreProperties>
</file>